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0EE-9B00-4C69-8AC0-1EB7D01A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E6D8-2A8A-44A7-BFF2-7C74E0EE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C577-D733-4FD4-839D-1AC71AA3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62FA-2F35-4AF6-93C7-7177C663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E199-6774-409A-9AA4-24C493D3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755C-98DC-4E32-BADA-9F659E44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1B40-418D-4451-8C1B-7D62BC38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7DAF-3EDD-46B2-A73E-5DFAB7ED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2C2A-FE19-4A42-953D-42A7C40C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45F5-D807-4363-A2B3-8058BA6E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7A0F-B47A-4C75-8FEB-F945710E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C76-DDF6-4126-815B-EF09AC62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FF1A-72F8-4256-985E-3BD717B2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8FE2-6375-4822-8EA6-77C4077F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8A55-237F-488E-ACBB-4EAD660A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8488-8E49-455B-A7BC-AB8A089A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64AB-1FBF-4AD8-BE57-F80F9032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3702-97B8-4719-B059-B5343B84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5518-1025-4E11-9E37-321C9852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AF9-E88E-46BD-ACEA-7599784A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95C-2A9E-4627-B806-E0EBF97B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6984-785C-4462-BA04-23833DE3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A24-5096-4CA2-98B5-A0C85B83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169E-2526-4502-A456-B5259CDF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1B96-A893-455F-BC91-64A8596AC56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3AC9-E2BB-4CCE-AA6D-6A6923AA1D0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514600" y="1752480"/>
            <a:ext cx="39625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他们</a:t>
            </a: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.</a:t>
            </a:r>
            <a:r>
              <a:rPr b="0" lang="zh-C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们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3733920"/>
            <a:ext cx="1843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143000" y="2133720"/>
            <a:ext cx="6858000" cy="2593080"/>
            <a:chOff x="1143000" y="2133720"/>
            <a:chExt cx="6858000" cy="2593080"/>
          </a:xfrm>
        </p:grpSpPr>
        <p:sp>
          <p:nvSpPr>
            <p:cNvPr id="147" name=""/>
            <p:cNvSpPr/>
            <p:nvPr/>
          </p:nvSpPr>
          <p:spPr>
            <a:xfrm>
              <a:off x="1143000" y="2133720"/>
              <a:ext cx="68580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143000" y="2133720"/>
              <a:ext cx="6561000" cy="2593080"/>
              <a:chOff x="1143000" y="2133720"/>
              <a:chExt cx="6561000" cy="2593080"/>
            </a:xfrm>
          </p:grpSpPr>
          <p:sp>
            <p:nvSpPr>
              <p:cNvPr id="149" name=""/>
              <p:cNvSpPr/>
              <p:nvPr/>
            </p:nvSpPr>
            <p:spPr>
              <a:xfrm>
                <a:off x="1143000" y="2133720"/>
                <a:ext cx="656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43000" y="2133720"/>
                <a:ext cx="3454560" cy="259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  </a:t>
                </a:r>
                <a:r>
                  <a:rPr b="0" lang="zh-CN" sz="14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5333760" cy="3797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80880" y="23623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即使在困难的环境下，他们仍然努力学习，在地上练习写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819520" y="0"/>
            <a:ext cx="160020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他们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1143000" y="2278080"/>
            <a:ext cx="6858000" cy="2303640"/>
            <a:chOff x="1143000" y="2278080"/>
            <a:chExt cx="6858000" cy="2303640"/>
          </a:xfrm>
        </p:grpSpPr>
        <p:sp>
          <p:nvSpPr>
            <p:cNvPr id="155" name=""/>
            <p:cNvSpPr/>
            <p:nvPr/>
          </p:nvSpPr>
          <p:spPr>
            <a:xfrm>
              <a:off x="1143000" y="2278080"/>
              <a:ext cx="68580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143000" y="2278080"/>
              <a:ext cx="6561000" cy="2303640"/>
              <a:chOff x="1143000" y="2278080"/>
              <a:chExt cx="6561000" cy="2303640"/>
            </a:xfrm>
          </p:grpSpPr>
          <p:sp>
            <p:nvSpPr>
              <p:cNvPr id="157" name=""/>
              <p:cNvSpPr/>
              <p:nvPr/>
            </p:nvSpPr>
            <p:spPr>
              <a:xfrm>
                <a:off x="1143000" y="2278080"/>
                <a:ext cx="656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143000" y="2278080"/>
                <a:ext cx="3200400" cy="23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  </a:t>
                </a:r>
                <a:r>
                  <a:rPr b="0" lang="zh-CN" sz="125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724280" cy="316224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457200" y="3114720"/>
            <a:ext cx="8991360" cy="1557000"/>
            <a:chOff x="457200" y="3114720"/>
            <a:chExt cx="8991360" cy="1557000"/>
          </a:xfrm>
        </p:grpSpPr>
        <p:sp>
          <p:nvSpPr>
            <p:cNvPr id="161" name=""/>
            <p:cNvSpPr/>
            <p:nvPr/>
          </p:nvSpPr>
          <p:spPr>
            <a:xfrm>
              <a:off x="457200" y="3114720"/>
              <a:ext cx="89913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457200" y="3114720"/>
              <a:ext cx="8601840" cy="1557000"/>
              <a:chOff x="457200" y="3114720"/>
              <a:chExt cx="8601840" cy="1557000"/>
            </a:xfrm>
          </p:grpSpPr>
          <p:sp>
            <p:nvSpPr>
              <p:cNvPr id="163" name=""/>
              <p:cNvSpPr/>
              <p:nvPr/>
            </p:nvSpPr>
            <p:spPr>
              <a:xfrm>
                <a:off x="457200" y="3114720"/>
                <a:ext cx="86018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7200" y="3114720"/>
                <a:ext cx="86018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在中国目前的二点二亿在校生中，三分之一左右只能读到小学，三分之一读到初中，再能读到高中的不到三分之一，全国平均受教育程度不足五年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平均每年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35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万左右的中小学生辍学，另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20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多万适龄儿童不能入学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全国尚未解决温饱的贫困人口有五千八百万，其中西北及西南地区占了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80%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。这些贫困人口的每年平均收入都低于人民币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58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元，其中还有一千万人口集中在自然环境极为恶劣的地区，每年平均收入低于人民币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30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元，而一个小学生每学期的学杂费需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5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至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20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元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" name=""/>
          <p:cNvSpPr txBox="1"/>
          <p:nvPr/>
        </p:nvSpPr>
        <p:spPr>
          <a:xfrm>
            <a:off x="5410080" y="533520"/>
            <a:ext cx="160020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他们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572000" cy="3406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5257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姐姐王剑嫔打理菜摊、大声叫卖，王剑玲仍是书不离手，抽空看看英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1828800"/>
            <a:ext cx="3962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家庭不幸接踵而至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，王剑玲的父亲遭遇车祸，基本丧失了劳动能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，母亲肖金珍又患上甲亢，父亲不得不重新下地干活，由于劳累过度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被诊断患了鼻咽癌，七拼八凑到处借钱治病，到目前已花去医药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万多元。母亲肖金珍被迫停止了在医院的治疗，但每个月要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多元买药控制病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00400" y="0"/>
            <a:ext cx="266688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她们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143000" y="1600200"/>
            <a:ext cx="6858000" cy="3659400"/>
            <a:chOff x="1143000" y="1600200"/>
            <a:chExt cx="6858000" cy="3659400"/>
          </a:xfrm>
        </p:grpSpPr>
        <p:sp>
          <p:nvSpPr>
            <p:cNvPr id="171" name=""/>
            <p:cNvSpPr/>
            <p:nvPr/>
          </p:nvSpPr>
          <p:spPr>
            <a:xfrm>
              <a:off x="1143000" y="1600200"/>
              <a:ext cx="68580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143000" y="1600200"/>
              <a:ext cx="6561000" cy="3659400"/>
              <a:chOff x="1143000" y="1600200"/>
              <a:chExt cx="6561000" cy="3659400"/>
            </a:xfrm>
          </p:grpSpPr>
          <p:sp>
            <p:nvSpPr>
              <p:cNvPr id="173" name=""/>
              <p:cNvSpPr/>
              <p:nvPr/>
            </p:nvSpPr>
            <p:spPr>
              <a:xfrm>
                <a:off x="1143000" y="1600200"/>
                <a:ext cx="656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143000" y="1600200"/>
                <a:ext cx="4819680" cy="365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  </a:t>
                </a:r>
                <a:r>
                  <a:rPr b="0" lang="zh-CN" sz="21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"/>
          <p:cNvGrpSpPr/>
          <p:nvPr/>
        </p:nvGrpSpPr>
        <p:grpSpPr>
          <a:xfrm>
            <a:off x="609480" y="2057400"/>
            <a:ext cx="8153280" cy="2166120"/>
            <a:chOff x="609480" y="2057400"/>
            <a:chExt cx="8153280" cy="2166120"/>
          </a:xfrm>
        </p:grpSpPr>
        <p:sp>
          <p:nvSpPr>
            <p:cNvPr id="176" name=""/>
            <p:cNvSpPr/>
            <p:nvPr/>
          </p:nvSpPr>
          <p:spPr>
            <a:xfrm>
              <a:off x="609480" y="2057400"/>
              <a:ext cx="815328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609480" y="2057400"/>
              <a:ext cx="7799760" cy="2166120"/>
              <a:chOff x="609480" y="2057400"/>
              <a:chExt cx="7799760" cy="2166120"/>
            </a:xfrm>
          </p:grpSpPr>
          <p:sp>
            <p:nvSpPr>
              <p:cNvPr id="178" name=""/>
              <p:cNvSpPr/>
              <p:nvPr/>
            </p:nvSpPr>
            <p:spPr>
              <a:xfrm>
                <a:off x="609480" y="2057400"/>
                <a:ext cx="77997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9480" y="2057400"/>
                <a:ext cx="7799760" cy="21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逆境中走出“姐妹花”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去年，姐姐王剑嫔考上湖南科技大学化学化工学院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姐姐的成功也激发了王剑玲学习上的拼劲，她每天早上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5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时起床早读，然后帮助母亲喂猪、浇菜等，干完杂活后再上学，晚上看书一般要到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12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时以后。生活中的王剑玲从不乱花一分钱，穿的全是好心人捐的旧衣服，从不与别人攀比。今年的高考中，王剑玲也以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562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分的成绩考上了湖南商学院。　　</a:t>
                </a:r>
                <a:br>
                  <a:rPr sz="2800"/>
                </a:b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143000" y="1600200"/>
            <a:ext cx="6858000" cy="3659400"/>
            <a:chOff x="1143000" y="1600200"/>
            <a:chExt cx="6858000" cy="3659400"/>
          </a:xfrm>
        </p:grpSpPr>
        <p:sp>
          <p:nvSpPr>
            <p:cNvPr id="181" name=""/>
            <p:cNvSpPr/>
            <p:nvPr/>
          </p:nvSpPr>
          <p:spPr>
            <a:xfrm>
              <a:off x="1143000" y="1600200"/>
              <a:ext cx="68580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1143000" y="1600200"/>
              <a:ext cx="6561000" cy="3659400"/>
              <a:chOff x="1143000" y="1600200"/>
              <a:chExt cx="6561000" cy="3659400"/>
            </a:xfrm>
          </p:grpSpPr>
          <p:sp>
            <p:nvSpPr>
              <p:cNvPr id="183" name=""/>
              <p:cNvSpPr/>
              <p:nvPr/>
            </p:nvSpPr>
            <p:spPr>
              <a:xfrm>
                <a:off x="1143000" y="1600200"/>
                <a:ext cx="656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43000" y="1600200"/>
                <a:ext cx="4819680" cy="365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  </a:t>
                </a:r>
                <a:r>
                  <a:rPr b="0" lang="zh-CN" sz="21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685800" y="1219320"/>
            <a:ext cx="8152920" cy="2043720"/>
            <a:chOff x="685800" y="1219320"/>
            <a:chExt cx="8152920" cy="2043720"/>
          </a:xfrm>
        </p:grpSpPr>
        <p:sp>
          <p:nvSpPr>
            <p:cNvPr id="186" name=""/>
            <p:cNvSpPr/>
            <p:nvPr/>
          </p:nvSpPr>
          <p:spPr>
            <a:xfrm>
              <a:off x="685800" y="1219320"/>
              <a:ext cx="815292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85800" y="1219320"/>
              <a:ext cx="7799760" cy="2043720"/>
              <a:chOff x="685800" y="1219320"/>
              <a:chExt cx="7799760" cy="2043720"/>
            </a:xfrm>
          </p:grpSpPr>
          <p:sp>
            <p:nvSpPr>
              <p:cNvPr id="188" name=""/>
              <p:cNvSpPr/>
              <p:nvPr/>
            </p:nvSpPr>
            <p:spPr>
              <a:xfrm>
                <a:off x="685800" y="1219320"/>
                <a:ext cx="77997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5800" y="1219320"/>
                <a:ext cx="7799760" cy="20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用双手与贫穷较劲</a:t>
                </a:r>
                <a:br>
                  <a:rPr sz="3200"/>
                </a:b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每天最多三四十元的卖菜收入，与下半年开学时两姐妹所需的至少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1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万元学费相比，其间的缺口太大了。王剑玲说，如果实在筹不起上学的费用，她会先去打工，等攒足学费，再圆大学梦。</a:t>
                </a:r>
                <a:br>
                  <a:rPr sz="3200"/>
                </a:b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采访结束时，王剑玲的母亲哽咽着说：“要是哪位好心人能帮助我女儿圆大学梦，我愿意把女儿让继给他做女儿。”记者发现，泪花已在她的眼眶里闪烁。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3305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33195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昨晚，一份发自南京医科大学的录取通知书让刘媛母女兴奋不已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制本硕连读的临床医学专业向刘媛敞开了大门——只可惜，去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病逝的父亲没能看到这一天。可是，当刘媛急着把好消息告诉亲戚时，妈妈却在独自发愣。妈妈的忧虑没有逃过女儿的眼睛，她明白，妈妈在担心学费，秋季开学一次交付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8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元学费，对负债累累的妈妈是个沉重的数字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1143000" y="2362320"/>
            <a:ext cx="6858000" cy="2135880"/>
            <a:chOff x="1143000" y="2362320"/>
            <a:chExt cx="6858000" cy="2135880"/>
          </a:xfrm>
        </p:grpSpPr>
        <p:sp>
          <p:nvSpPr>
            <p:cNvPr id="193" name=""/>
            <p:cNvSpPr/>
            <p:nvPr/>
          </p:nvSpPr>
          <p:spPr>
            <a:xfrm>
              <a:off x="1143000" y="2362320"/>
              <a:ext cx="68580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1143000" y="2362320"/>
              <a:ext cx="6561000" cy="2135880"/>
              <a:chOff x="1143000" y="2362320"/>
              <a:chExt cx="6561000" cy="2135880"/>
            </a:xfrm>
          </p:grpSpPr>
          <p:sp>
            <p:nvSpPr>
              <p:cNvPr id="195" name=""/>
              <p:cNvSpPr/>
              <p:nvPr/>
            </p:nvSpPr>
            <p:spPr>
              <a:xfrm>
                <a:off x="1143000" y="2362320"/>
                <a:ext cx="656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143000" y="2362320"/>
                <a:ext cx="2629080" cy="21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  </a:t>
                </a:r>
                <a:r>
                  <a:rPr b="0" lang="zh-CN" sz="11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228600" y="2057400"/>
            <a:ext cx="9143640" cy="1557000"/>
            <a:chOff x="228600" y="2057400"/>
            <a:chExt cx="9143640" cy="1557000"/>
          </a:xfrm>
        </p:grpSpPr>
        <p:sp>
          <p:nvSpPr>
            <p:cNvPr id="198" name=""/>
            <p:cNvSpPr/>
            <p:nvPr/>
          </p:nvSpPr>
          <p:spPr>
            <a:xfrm>
              <a:off x="228600" y="2057400"/>
              <a:ext cx="91436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28600" y="2057400"/>
              <a:ext cx="8747280" cy="1557000"/>
              <a:chOff x="228600" y="2057400"/>
              <a:chExt cx="8747280" cy="1557000"/>
            </a:xfrm>
          </p:grpSpPr>
          <p:sp>
            <p:nvSpPr>
              <p:cNvPr id="200" name=""/>
              <p:cNvSpPr/>
              <p:nvPr/>
            </p:nvSpPr>
            <p:spPr>
              <a:xfrm>
                <a:off x="228600" y="2057400"/>
                <a:ext cx="8747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28600" y="2057400"/>
                <a:ext cx="87472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刘媛把手悄悄伸进口袋里，摸到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10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元钞票，那是她昨天刚领到的第一笔自己挣的钱，这可是在制药厂打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6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天的报酬啊，“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10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元可以分担一些上大学的学费了。”刘媛盘算着，高中获得的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20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元奖学金、亲戚给的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20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元压岁钱、加上刚挣的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10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元，至少已攒了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50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元学费了，她没有急着告诉妈妈，这个暑假还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4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天，等钱攒得多些再让妈妈惊喜一下。　　　</a:t>
                </a:r>
                <a:br>
                  <a:rPr sz="2400"/>
                </a:b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刘媛高考成绩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64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分，这个分数上广州第一军医大学的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8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年制本硕博连读没问题，但想到家里的条件和妈妈的身体，她放弃了。高中三年，刘媛在学校搭伙时也舍不得买荤菜，老师曾亲眼看到，中午一个菜也不买，只用不花钱的大锅汤泡饭吃。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1143000" y="1494000"/>
            <a:ext cx="6858000" cy="3872880"/>
            <a:chOff x="1143000" y="1494000"/>
            <a:chExt cx="6858000" cy="3872880"/>
          </a:xfrm>
        </p:grpSpPr>
        <p:sp>
          <p:nvSpPr>
            <p:cNvPr id="203" name=""/>
            <p:cNvSpPr/>
            <p:nvPr/>
          </p:nvSpPr>
          <p:spPr>
            <a:xfrm>
              <a:off x="1143000" y="1494000"/>
              <a:ext cx="68580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1143000" y="1494000"/>
              <a:ext cx="6561000" cy="3872880"/>
              <a:chOff x="1143000" y="1494000"/>
              <a:chExt cx="6561000" cy="3872880"/>
            </a:xfrm>
          </p:grpSpPr>
          <p:sp>
            <p:nvSpPr>
              <p:cNvPr id="205" name=""/>
              <p:cNvSpPr/>
              <p:nvPr/>
            </p:nvSpPr>
            <p:spPr>
              <a:xfrm>
                <a:off x="1143000" y="1494000"/>
                <a:ext cx="656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143000" y="1494000"/>
                <a:ext cx="3676680" cy="38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  </a:t>
                </a:r>
                <a:r>
                  <a:rPr b="0" lang="zh-CN" sz="2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543560" cy="4800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419720" y="7621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爸爸去世了，妈妈走了，只剩下年老体病的爷爷奶奶。在长沙市岳麓区左家垅，有一对双胞胎姐妹，在家徒四壁之境中，都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5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分的分数，双双考得学校第二名。对此，爷爷奶奶又喜又忧，两位老人要以自己的年老病弱之躯培养出一对大学生姐妹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1143000" y="1494000"/>
            <a:ext cx="6858000" cy="3872880"/>
            <a:chOff x="1143000" y="1494000"/>
            <a:chExt cx="6858000" cy="3872880"/>
          </a:xfrm>
        </p:grpSpPr>
        <p:sp>
          <p:nvSpPr>
            <p:cNvPr id="210" name=""/>
            <p:cNvSpPr/>
            <p:nvPr/>
          </p:nvSpPr>
          <p:spPr>
            <a:xfrm>
              <a:off x="1143000" y="1494000"/>
              <a:ext cx="68580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1143000" y="1494000"/>
              <a:ext cx="6561000" cy="3872880"/>
              <a:chOff x="1143000" y="1494000"/>
              <a:chExt cx="6561000" cy="3872880"/>
            </a:xfrm>
          </p:grpSpPr>
          <p:sp>
            <p:nvSpPr>
              <p:cNvPr id="212" name=""/>
              <p:cNvSpPr/>
              <p:nvPr/>
            </p:nvSpPr>
            <p:spPr>
              <a:xfrm>
                <a:off x="1143000" y="1494000"/>
                <a:ext cx="656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143000" y="1494000"/>
                <a:ext cx="3676680" cy="38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  </a:t>
                </a:r>
                <a:r>
                  <a:rPr b="0" lang="zh-CN" sz="2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609480" y="1828800"/>
            <a:ext cx="8534160" cy="1373760"/>
            <a:chOff x="609480" y="1828800"/>
            <a:chExt cx="8534160" cy="1373760"/>
          </a:xfrm>
        </p:grpSpPr>
        <p:sp>
          <p:nvSpPr>
            <p:cNvPr id="215" name=""/>
            <p:cNvSpPr/>
            <p:nvPr/>
          </p:nvSpPr>
          <p:spPr>
            <a:xfrm>
              <a:off x="609480" y="1828800"/>
              <a:ext cx="85341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609480" y="1828800"/>
              <a:ext cx="8164440" cy="1373760"/>
              <a:chOff x="609480" y="1828800"/>
              <a:chExt cx="8164440" cy="1373760"/>
            </a:xfrm>
          </p:grpSpPr>
          <p:sp>
            <p:nvSpPr>
              <p:cNvPr id="217" name=""/>
              <p:cNvSpPr/>
              <p:nvPr/>
            </p:nvSpPr>
            <p:spPr>
              <a:xfrm>
                <a:off x="609480" y="1828800"/>
                <a:ext cx="8164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9480" y="1828800"/>
                <a:ext cx="816444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“卖菜啦，新鲜的白菜。”在长沙市岳麓区左家垅菜市场的角落里，一位瘦骨嶙峋的老奶奶小声叫卖着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每天清晨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4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时，老人便起床，到自家种的菜地里挑长得好的菜到菜市场去卖，去菜市场的路有四里多，正在修路。老人要挑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40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斤的担子晃荡一个小时才能到达菜市场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老人是双胞胎姐妹花李琴、李弦的奶奶，叫彭秀莲，今年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65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岁。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9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年来的日日夜夜，就是这个瘦弱的老人和老伴一起种菜，一角一元地积攒起来，送给两个双胞胎的孙女作为学费和生活费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1600200" y="838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卖菜老人供姐妹上大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143000" y="1494000"/>
            <a:ext cx="6858000" cy="3872880"/>
            <a:chOff x="1143000" y="1494000"/>
            <a:chExt cx="6858000" cy="3872880"/>
          </a:xfrm>
        </p:grpSpPr>
        <p:sp>
          <p:nvSpPr>
            <p:cNvPr id="221" name=""/>
            <p:cNvSpPr/>
            <p:nvPr/>
          </p:nvSpPr>
          <p:spPr>
            <a:xfrm>
              <a:off x="1143000" y="1494000"/>
              <a:ext cx="68580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1143000" y="1494000"/>
              <a:ext cx="6561000" cy="3872880"/>
              <a:chOff x="1143000" y="1494000"/>
              <a:chExt cx="6561000" cy="3872880"/>
            </a:xfrm>
          </p:grpSpPr>
          <p:sp>
            <p:nvSpPr>
              <p:cNvPr id="223" name=""/>
              <p:cNvSpPr/>
              <p:nvPr/>
            </p:nvSpPr>
            <p:spPr>
              <a:xfrm>
                <a:off x="1143000" y="1494000"/>
                <a:ext cx="656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143000" y="1494000"/>
                <a:ext cx="3676680" cy="38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  </a:t>
                </a:r>
                <a:r>
                  <a:rPr b="0" lang="zh-CN" sz="2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"/>
          <p:cNvGrpSpPr/>
          <p:nvPr/>
        </p:nvGrpSpPr>
        <p:grpSpPr>
          <a:xfrm>
            <a:off x="380880" y="2133720"/>
            <a:ext cx="8762760" cy="825480"/>
            <a:chOff x="380880" y="2133720"/>
            <a:chExt cx="8762760" cy="825480"/>
          </a:xfrm>
        </p:grpSpPr>
        <p:sp>
          <p:nvSpPr>
            <p:cNvPr id="226" name=""/>
            <p:cNvSpPr/>
            <p:nvPr/>
          </p:nvSpPr>
          <p:spPr>
            <a:xfrm>
              <a:off x="380880" y="2133720"/>
              <a:ext cx="87627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380880" y="2133720"/>
              <a:ext cx="8382960" cy="825480"/>
              <a:chOff x="380880" y="2133720"/>
              <a:chExt cx="8382960" cy="825480"/>
            </a:xfrm>
          </p:grpSpPr>
          <p:sp>
            <p:nvSpPr>
              <p:cNvPr id="228" name=""/>
              <p:cNvSpPr/>
              <p:nvPr/>
            </p:nvSpPr>
            <p:spPr>
              <a:xfrm>
                <a:off x="380880" y="2133720"/>
                <a:ext cx="83829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80880" y="2133720"/>
                <a:ext cx="8382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“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总不能让她们挨饿。”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66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岁的李爷爷喃喃地说着，他面孔黝黑，脸上写满沧桑，脸和身子都有点浮肿，面对记者，他将他那件洗得几乎透明的旧衣服拉了又拉。儿子走后，他唯一的信念就是不能让孙女饿着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9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年了，他就靠着这一亩多菜地，撑起了李琴、李弦姐妹俩的读书梦。操劳过度的李爷爷身患多种病，高血压让他无法做重活，而支气管炎也让他哮喘不已，他还有一个怪毛病，只要晒太阳，全身从头到脚都会奇痒无比。因为没有钱，李爷爷这些毛病只能强忍着。于是邻居经常可以看到李爷爷担着粪桶，喘成一团地走在菜地里，一边挠着痒，一边小心伺候着他视为心肝宝贝的那些菜。李爷爷的头顶已被抓得血渍斑斑，而掀开背上，那条条抓痕更是触目惊心。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1752480" y="7621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“菜是命根子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5867280" cy="390528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5791320" y="1219320"/>
            <a:ext cx="3352680" cy="2593440"/>
            <a:chOff x="5791320" y="1219320"/>
            <a:chExt cx="3352680" cy="2593440"/>
          </a:xfrm>
        </p:grpSpPr>
        <p:sp>
          <p:nvSpPr>
            <p:cNvPr id="102" name=""/>
            <p:cNvSpPr/>
            <p:nvPr/>
          </p:nvSpPr>
          <p:spPr>
            <a:xfrm>
              <a:off x="5791320" y="1219320"/>
              <a:ext cx="33526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791320" y="1219320"/>
              <a:ext cx="3208320" cy="2593440"/>
              <a:chOff x="5791320" y="1219320"/>
              <a:chExt cx="3208320" cy="2593440"/>
            </a:xfrm>
          </p:grpSpPr>
          <p:sp>
            <p:nvSpPr>
              <p:cNvPr id="104" name=""/>
              <p:cNvSpPr/>
              <p:nvPr/>
            </p:nvSpPr>
            <p:spPr>
              <a:xfrm>
                <a:off x="5791320" y="1219320"/>
                <a:ext cx="3207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791320" y="1219320"/>
                <a:ext cx="3208320" cy="259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甘肃省宕昌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该校在校学生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157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人，教学设施仅有课凳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4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双人套，，校内无活动场地，图书仪器等一无所有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,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建筑面积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256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平方米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校舍年久失修，已全部成为危房，学生在雨天不敢进教室，体育活动只能在毗邻的农民麦场上开展，上厕所要穿过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212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国道到民房背后去借用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"/>
          <p:cNvSpPr txBox="1"/>
          <p:nvPr/>
        </p:nvSpPr>
        <p:spPr>
          <a:xfrm>
            <a:off x="1447920" y="0"/>
            <a:ext cx="160020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他们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1143000" y="1494000"/>
            <a:ext cx="6858000" cy="3872880"/>
            <a:chOff x="1143000" y="1494000"/>
            <a:chExt cx="6858000" cy="3872880"/>
          </a:xfrm>
        </p:grpSpPr>
        <p:sp>
          <p:nvSpPr>
            <p:cNvPr id="232" name=""/>
            <p:cNvSpPr/>
            <p:nvPr/>
          </p:nvSpPr>
          <p:spPr>
            <a:xfrm>
              <a:off x="1143000" y="1494000"/>
              <a:ext cx="68580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1143000" y="1494000"/>
              <a:ext cx="6561000" cy="3872880"/>
              <a:chOff x="1143000" y="1494000"/>
              <a:chExt cx="6561000" cy="3872880"/>
            </a:xfrm>
          </p:grpSpPr>
          <p:sp>
            <p:nvSpPr>
              <p:cNvPr id="234" name=""/>
              <p:cNvSpPr/>
              <p:nvPr/>
            </p:nvSpPr>
            <p:spPr>
              <a:xfrm>
                <a:off x="1143000" y="1494000"/>
                <a:ext cx="656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143000" y="1494000"/>
                <a:ext cx="3676680" cy="38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  </a:t>
                </a:r>
                <a:r>
                  <a:rPr b="0" lang="zh-CN" sz="2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685800" y="1676520"/>
            <a:ext cx="8229240" cy="1252080"/>
            <a:chOff x="685800" y="1676520"/>
            <a:chExt cx="8229240" cy="1252080"/>
          </a:xfrm>
        </p:grpSpPr>
        <p:sp>
          <p:nvSpPr>
            <p:cNvPr id="237" name=""/>
            <p:cNvSpPr/>
            <p:nvPr/>
          </p:nvSpPr>
          <p:spPr>
            <a:xfrm>
              <a:off x="685800" y="1676520"/>
              <a:ext cx="82292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685800" y="1676520"/>
              <a:ext cx="7872480" cy="1252080"/>
              <a:chOff x="685800" y="1676520"/>
              <a:chExt cx="7872480" cy="1252080"/>
            </a:xfrm>
          </p:grpSpPr>
          <p:sp>
            <p:nvSpPr>
              <p:cNvPr id="239" name=""/>
              <p:cNvSpPr/>
              <p:nvPr/>
            </p:nvSpPr>
            <p:spPr>
              <a:xfrm>
                <a:off x="685800" y="1676520"/>
                <a:ext cx="78724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5800" y="1676520"/>
                <a:ext cx="7872480" cy="12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“一定要让她们读大学，这样才会有出息。”李爷爷十分坚决地说，“只要我活着，就不会让两个孩子中的任何一个辍学，绝不会少一个。因为她们本来就是双胞胎呀！何况连高考的分数都是同样多，让我们如何取舍？”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老人们计划着后段生计，但盘算了很久也找不出一个好的办法。“现在流行出去打工，像我这样的人出去打工会有地方要吗？”李爷爷问。这个早就透支了健康的老人，眼中依旧是泪光闪闪，他充满希望地看着记者，希望有一个答复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1828800" y="4572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■“绝不少一个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1478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952880" y="22860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怀集县一中邓茂云风雨无阻地骑着三轮车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多公里的路到县城卖废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35053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一个家境贫寒的农村少年，靠着捡拾废品不但补贴了家用，还自己交学费上完了三年高中，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6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分的成绩考上了大学本科。近日他被华南农业大学录取了。他就是怀集县一中高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B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班的学生邓茂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1143000" y="1996920"/>
            <a:ext cx="6858000" cy="2867400"/>
            <a:chOff x="1143000" y="1996920"/>
            <a:chExt cx="6858000" cy="2867400"/>
          </a:xfrm>
        </p:grpSpPr>
        <p:sp>
          <p:nvSpPr>
            <p:cNvPr id="246" name=""/>
            <p:cNvSpPr/>
            <p:nvPr/>
          </p:nvSpPr>
          <p:spPr>
            <a:xfrm>
              <a:off x="1143000" y="1996920"/>
              <a:ext cx="68580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1143000" y="1996920"/>
              <a:ext cx="6561000" cy="2867400"/>
              <a:chOff x="1143000" y="1996920"/>
              <a:chExt cx="6561000" cy="2867400"/>
            </a:xfrm>
          </p:grpSpPr>
          <p:sp>
            <p:nvSpPr>
              <p:cNvPr id="248" name=""/>
              <p:cNvSpPr/>
              <p:nvPr/>
            </p:nvSpPr>
            <p:spPr>
              <a:xfrm>
                <a:off x="1143000" y="1996920"/>
                <a:ext cx="656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43000" y="1996920"/>
                <a:ext cx="4248000" cy="28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  </a:t>
                </a:r>
                <a:r>
                  <a:rPr b="0" lang="zh-CN" sz="162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533520" y="1889280"/>
            <a:ext cx="8305200" cy="1618560"/>
            <a:chOff x="533520" y="1889280"/>
            <a:chExt cx="8305200" cy="1618560"/>
          </a:xfrm>
        </p:grpSpPr>
        <p:sp>
          <p:nvSpPr>
            <p:cNvPr id="251" name=""/>
            <p:cNvSpPr/>
            <p:nvPr/>
          </p:nvSpPr>
          <p:spPr>
            <a:xfrm>
              <a:off x="533520" y="1889280"/>
              <a:ext cx="83052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33520" y="1889280"/>
              <a:ext cx="7945200" cy="1618560"/>
              <a:chOff x="533520" y="1889280"/>
              <a:chExt cx="7945200" cy="1618560"/>
            </a:xfrm>
          </p:grpSpPr>
          <p:sp>
            <p:nvSpPr>
              <p:cNvPr id="253" name=""/>
              <p:cNvSpPr/>
              <p:nvPr/>
            </p:nvSpPr>
            <p:spPr>
              <a:xfrm>
                <a:off x="533520" y="1889280"/>
                <a:ext cx="7945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33520" y="1889280"/>
                <a:ext cx="794520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      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邓茂云同学出生怀集县甘洒镇上屈村一个普通农民家庭，父母和弟妹一家五口，靠着父母种田挣钱度日。弟弟读高一，妹妹读小学四年级。就在三年前邓茂云升中考试的时候，一场厄运降临：他的父亲突患重病，住院两个多月足足花去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5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万多元医疗费。父亲病愈落下后遗症，从此不能干重活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就在这时，邓茂云以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575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分的好成绩被县一中录取。家庭经济拮据，父亲病债高筑，拿什么钱去交学费读书？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在他收到入学通知书的第二天一大早，就将家中仅有的一辆值钱的自行车，以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2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元的价格卖了。他用这区区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2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元作为原始启动资本，从事收捡破烂废品的行当，用一分一元的积累，凑足读书的学杂费和生活费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从此，在上屈村委会石岗村及周围村寨，人们经常见到一个肩挑箩筐的少年，每天一大早就在村寨周围捡拾垃圾堆里的废品。周末和寒、暑假，他更是穿行于村道收捡废品，隔三五天便拿到县城去卖。没有自行车，邓茂云靠着双肩把废品挑到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2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多公里的县城卖，直到攒足了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6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元才买了部旧三轮车运废品。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1676520" y="7621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“２０元”的启动本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143000" y="1996920"/>
            <a:ext cx="6858000" cy="2867400"/>
            <a:chOff x="1143000" y="1996920"/>
            <a:chExt cx="6858000" cy="2867400"/>
          </a:xfrm>
        </p:grpSpPr>
        <p:sp>
          <p:nvSpPr>
            <p:cNvPr id="257" name=""/>
            <p:cNvSpPr/>
            <p:nvPr/>
          </p:nvSpPr>
          <p:spPr>
            <a:xfrm>
              <a:off x="1143000" y="1996920"/>
              <a:ext cx="68580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143000" y="1996920"/>
              <a:ext cx="6561000" cy="2867400"/>
              <a:chOff x="1143000" y="1996920"/>
              <a:chExt cx="6561000" cy="2867400"/>
            </a:xfrm>
          </p:grpSpPr>
          <p:sp>
            <p:nvSpPr>
              <p:cNvPr id="259" name=""/>
              <p:cNvSpPr/>
              <p:nvPr/>
            </p:nvSpPr>
            <p:spPr>
              <a:xfrm>
                <a:off x="1143000" y="1996920"/>
                <a:ext cx="656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143000" y="1996920"/>
                <a:ext cx="4248000" cy="28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  </a:t>
                </a:r>
                <a:r>
                  <a:rPr b="0" lang="zh-CN" sz="162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533520" y="1889280"/>
            <a:ext cx="8915040" cy="2227680"/>
            <a:chOff x="533520" y="1889280"/>
            <a:chExt cx="8915040" cy="2227680"/>
          </a:xfrm>
        </p:grpSpPr>
        <p:sp>
          <p:nvSpPr>
            <p:cNvPr id="262" name=""/>
            <p:cNvSpPr/>
            <p:nvPr/>
          </p:nvSpPr>
          <p:spPr>
            <a:xfrm>
              <a:off x="533520" y="1889280"/>
              <a:ext cx="8915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533520" y="1889280"/>
              <a:ext cx="8528760" cy="2227680"/>
              <a:chOff x="533520" y="1889280"/>
              <a:chExt cx="8528760" cy="2227680"/>
            </a:xfrm>
          </p:grpSpPr>
          <p:sp>
            <p:nvSpPr>
              <p:cNvPr id="264" name=""/>
              <p:cNvSpPr/>
              <p:nvPr/>
            </p:nvSpPr>
            <p:spPr>
              <a:xfrm>
                <a:off x="533520" y="1889280"/>
                <a:ext cx="85287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33520" y="1889280"/>
                <a:ext cx="852876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邓茂云上高中后不久的一次体育课，他看到操场边丢弃了许多矿泉水瓶和饮料瓶，便有了在学校里拾废品的念头。他待同学们散去，便戴上草帽去操场捡饮料瓶，悄悄放在宿舍的床底下，他在校园继续干起捡破烂的行当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他每天五点钟起床，到校园和附近几个垃圾堆捡废纸、饮料瓶、破旧塑料。一段时间后，邓茂云发现自己的学习成绩开始下滑，那是因为他早读的时间得不到保障。于是他将捡破烂的时间改在晚上自修课以后。这一调整，他的成绩又上升了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三年来，他也数不清在学校里捡了多少袋废品，除了父母每学期给少许的钱交学杂费外，不足部分和每月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10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多元的伙食费都靠他拾荒的钱来凑足。几年来，他没舍得吃过一次零食，没舍得添过一件新衣服，经常是白饭和着开水吃，一直节俭地过日子，却从没因困难欠过一分学杂费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1523880" y="914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住校学习仍坚持捡废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1143000" y="1584360"/>
            <a:ext cx="6858000" cy="3690360"/>
            <a:chOff x="1143000" y="1584360"/>
            <a:chExt cx="6858000" cy="3690360"/>
          </a:xfrm>
        </p:grpSpPr>
        <p:sp>
          <p:nvSpPr>
            <p:cNvPr id="268" name=""/>
            <p:cNvSpPr/>
            <p:nvPr/>
          </p:nvSpPr>
          <p:spPr>
            <a:xfrm>
              <a:off x="1143000" y="1584360"/>
              <a:ext cx="68580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1143000" y="1584360"/>
              <a:ext cx="6561000" cy="3690360"/>
              <a:chOff x="1143000" y="1584360"/>
              <a:chExt cx="6561000" cy="3690360"/>
            </a:xfrm>
          </p:grpSpPr>
          <p:sp>
            <p:nvSpPr>
              <p:cNvPr id="270" name=""/>
              <p:cNvSpPr/>
              <p:nvPr/>
            </p:nvSpPr>
            <p:spPr>
              <a:xfrm>
                <a:off x="1143000" y="1584360"/>
                <a:ext cx="656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143000" y="1584360"/>
                <a:ext cx="4819680" cy="36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  </a:t>
                </a:r>
                <a:r>
                  <a:rPr b="0" lang="zh-CN" sz="216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45720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228600" y="4114800"/>
            <a:ext cx="4419720" cy="947160"/>
            <a:chOff x="228600" y="4114800"/>
            <a:chExt cx="4419720" cy="947160"/>
          </a:xfrm>
        </p:grpSpPr>
        <p:sp>
          <p:nvSpPr>
            <p:cNvPr id="274" name=""/>
            <p:cNvSpPr/>
            <p:nvPr/>
          </p:nvSpPr>
          <p:spPr>
            <a:xfrm>
              <a:off x="228600" y="4114800"/>
              <a:ext cx="441972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228600" y="4114800"/>
              <a:ext cx="4228200" cy="947160"/>
              <a:chOff x="228600" y="4114800"/>
              <a:chExt cx="4228200" cy="94716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00" y="4114800"/>
                <a:ext cx="4228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28600" y="4114800"/>
                <a:ext cx="42271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６月１５日，东北林业大学工程技术学院学生付新彬跳楼自杀。这一天，距离他毕业离校仅剩１７天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1143000" y="1584360"/>
            <a:ext cx="6858000" cy="3690360"/>
            <a:chOff x="1143000" y="1584360"/>
            <a:chExt cx="6858000" cy="3690360"/>
          </a:xfrm>
        </p:grpSpPr>
        <p:sp>
          <p:nvSpPr>
            <p:cNvPr id="279" name=""/>
            <p:cNvSpPr/>
            <p:nvPr/>
          </p:nvSpPr>
          <p:spPr>
            <a:xfrm>
              <a:off x="1143000" y="1584360"/>
              <a:ext cx="68580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143000" y="1584360"/>
              <a:ext cx="6561000" cy="3690360"/>
              <a:chOff x="1143000" y="1584360"/>
              <a:chExt cx="6561000" cy="3690360"/>
            </a:xfrm>
          </p:grpSpPr>
          <p:sp>
            <p:nvSpPr>
              <p:cNvPr id="281" name=""/>
              <p:cNvSpPr/>
              <p:nvPr/>
            </p:nvSpPr>
            <p:spPr>
              <a:xfrm>
                <a:off x="1143000" y="1584360"/>
                <a:ext cx="656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43000" y="1584360"/>
                <a:ext cx="4819680" cy="36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  </a:t>
                </a:r>
                <a:r>
                  <a:rPr b="0" lang="zh-CN" sz="216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838080" y="533520"/>
            <a:ext cx="8305560" cy="1618560"/>
            <a:chOff x="838080" y="533520"/>
            <a:chExt cx="8305560" cy="1618560"/>
          </a:xfrm>
        </p:grpSpPr>
        <p:sp>
          <p:nvSpPr>
            <p:cNvPr id="284" name=""/>
            <p:cNvSpPr/>
            <p:nvPr/>
          </p:nvSpPr>
          <p:spPr>
            <a:xfrm>
              <a:off x="838080" y="533520"/>
              <a:ext cx="83055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838080" y="533520"/>
              <a:ext cx="7945560" cy="1618560"/>
              <a:chOff x="838080" y="533520"/>
              <a:chExt cx="7945560" cy="1618560"/>
            </a:xfrm>
          </p:grpSpPr>
          <p:sp>
            <p:nvSpPr>
              <p:cNvPr id="286" name=""/>
              <p:cNvSpPr/>
              <p:nvPr/>
            </p:nvSpPr>
            <p:spPr>
              <a:xfrm>
                <a:off x="838080" y="533520"/>
                <a:ext cx="7945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38080" y="533520"/>
                <a:ext cx="794556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付新彬是黑龙江省嫩江县前进镇前进村人，父母都是不识字的农民，弟弟妹妹很早就辍学在家，全家把希望都寄托在他一个人身上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为了供付新彬上学，父母每个学期给他３０００元生活费，这对一个农民家庭来说是相当不容易的。据他的老师介绍，付新彬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4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年仅向学校交了８０００多元学费，还欠上万元。而他的父亲说，那８０００多元很大一部分还是花３分利借来的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记者在和付新彬的同学交谈中了解到，他在大一时还担任学院学生会干部，大二时主动辞职了，性格也变得越来越内向，从不和同学主动交流，班干部找他谈话，他也刻意回避，学习成绩也滑到班级后几名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记者在采访中感到，付新彬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4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年大学中一直承受着巨大的心理压力，他也为自己寻找到了一个舒缓压力的办法，就是大量地看武侠和魔幻小说，但一时的解脱并没有真正使他轻松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付新彬的同学讲，他对学习专业课兴趣不是很大，虽然从不逃课，可节节课带武侠、魔幻小说进课堂，经常是看着看着笑出声来；晚上寝室熄灯后，他就带着小说到走廊看；有时甚至去网吧包宿上网看这类小说；每到周六、周日付新彬还会背个书包到校外去租书。老师在他死后发现他有几十本这样的小说。　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1143000" y="1477800"/>
            <a:ext cx="6858000" cy="3903480"/>
            <a:chOff x="1143000" y="1477800"/>
            <a:chExt cx="6858000" cy="3903480"/>
          </a:xfrm>
        </p:grpSpPr>
        <p:sp>
          <p:nvSpPr>
            <p:cNvPr id="289" name=""/>
            <p:cNvSpPr/>
            <p:nvPr/>
          </p:nvSpPr>
          <p:spPr>
            <a:xfrm>
              <a:off x="1143000" y="1477800"/>
              <a:ext cx="68580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143000" y="1477800"/>
              <a:ext cx="6561000" cy="3903480"/>
              <a:chOff x="1143000" y="1477800"/>
              <a:chExt cx="6561000" cy="3903480"/>
            </a:xfrm>
          </p:grpSpPr>
          <p:sp>
            <p:nvSpPr>
              <p:cNvPr id="291" name=""/>
              <p:cNvSpPr/>
              <p:nvPr/>
            </p:nvSpPr>
            <p:spPr>
              <a:xfrm>
                <a:off x="1143000" y="1477800"/>
                <a:ext cx="656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43000" y="1477800"/>
                <a:ext cx="5391000" cy="39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  </a:t>
                </a:r>
                <a:r>
                  <a:rPr b="0" lang="zh-CN" sz="23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5143680" cy="36576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581280" y="3382920"/>
            <a:ext cx="51436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1371600" y="457200"/>
            <a:ext cx="6858000" cy="1008720"/>
            <a:chOff x="1371600" y="457200"/>
            <a:chExt cx="6858000" cy="1008720"/>
          </a:xfrm>
        </p:grpSpPr>
        <p:sp>
          <p:nvSpPr>
            <p:cNvPr id="296" name=""/>
            <p:cNvSpPr/>
            <p:nvPr/>
          </p:nvSpPr>
          <p:spPr>
            <a:xfrm>
              <a:off x="1371600" y="457200"/>
              <a:ext cx="68580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1371600" y="457200"/>
              <a:ext cx="6561000" cy="1008720"/>
              <a:chOff x="1371600" y="457200"/>
              <a:chExt cx="6561000" cy="1008720"/>
            </a:xfrm>
          </p:grpSpPr>
          <p:sp>
            <p:nvSpPr>
              <p:cNvPr id="298" name=""/>
              <p:cNvSpPr/>
              <p:nvPr/>
            </p:nvSpPr>
            <p:spPr>
              <a:xfrm>
                <a:off x="1371600" y="457200"/>
                <a:ext cx="656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71600" y="457200"/>
                <a:ext cx="6561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单亮同学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000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年入校以来，曾担任校学生会的干部，学习成绩一直居于专业前列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　　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001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年加入中国共产党，多次获得校综合奖学金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　　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004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年被定为免试研究生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685800" y="2057400"/>
            <a:ext cx="8457840" cy="2166480"/>
            <a:chOff x="685800" y="2057400"/>
            <a:chExt cx="8457840" cy="2166480"/>
          </a:xfrm>
        </p:grpSpPr>
        <p:sp>
          <p:nvSpPr>
            <p:cNvPr id="301" name=""/>
            <p:cNvSpPr/>
            <p:nvPr/>
          </p:nvSpPr>
          <p:spPr>
            <a:xfrm>
              <a:off x="685800" y="2057400"/>
              <a:ext cx="84578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685800" y="2057400"/>
              <a:ext cx="8091360" cy="2166480"/>
              <a:chOff x="685800" y="2057400"/>
              <a:chExt cx="8091360" cy="2166480"/>
            </a:xfrm>
          </p:grpSpPr>
          <p:sp>
            <p:nvSpPr>
              <p:cNvPr id="303" name=""/>
              <p:cNvSpPr/>
              <p:nvPr/>
            </p:nvSpPr>
            <p:spPr>
              <a:xfrm>
                <a:off x="685800" y="2057400"/>
                <a:ext cx="8091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85800" y="2057400"/>
                <a:ext cx="8091360" cy="21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单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亮的确有多份兼职，并且不是报纸上说的三份，而是五份，它们分别是：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　　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.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私立大学外聘英语教师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　　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.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两个学生的法语家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　　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.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为一位公司经理补习外语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　　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.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为一家公司翻译资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　　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.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一位中专生的家教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5" name=""/>
          <p:cNvSpPr/>
          <p:nvPr/>
        </p:nvSpPr>
        <p:spPr>
          <a:xfrm>
            <a:off x="685800" y="434340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他平时不注意营养早饭从来不吃，这是一个。然后午饭有时候工作起来，特别是兼职工作起来就忘了吃，有时候找工作去了跑了一天中午就来不及吃，到了晚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点钟以后回来买方便面，牛肉这些就向三顿并一顿一样这样吃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304920" y="2133720"/>
            <a:ext cx="8528040" cy="2653560"/>
            <a:chOff x="304920" y="2133720"/>
            <a:chExt cx="8528040" cy="2653560"/>
          </a:xfrm>
        </p:grpSpPr>
        <p:sp>
          <p:nvSpPr>
            <p:cNvPr id="307" name=""/>
            <p:cNvSpPr/>
            <p:nvPr/>
          </p:nvSpPr>
          <p:spPr>
            <a:xfrm>
              <a:off x="304920" y="2133720"/>
              <a:ext cx="3349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04920" y="2133720"/>
              <a:ext cx="8528040" cy="2653560"/>
              <a:chOff x="304920" y="2133720"/>
              <a:chExt cx="8528040" cy="2653560"/>
            </a:xfrm>
          </p:grpSpPr>
          <p:sp>
            <p:nvSpPr>
              <p:cNvPr id="309" name=""/>
              <p:cNvSpPr/>
              <p:nvPr/>
            </p:nvSpPr>
            <p:spPr>
              <a:xfrm>
                <a:off x="304920" y="2133720"/>
                <a:ext cx="1341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ffffff"/>
                    </a:solidFill>
                    <a:latin typeface="Times New Roman"/>
                    <a:ea typeface="_x000b__x000c_"/>
                  </a:rPr>
                  <a:t>国家助学贷款新政策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04920" y="2133720"/>
                <a:ext cx="8528040" cy="26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教育部、财政部、人民银行、银监会新近下发了《关于进一步完善国家助学贷款工作的若干意见》，对助学贷款政策作出重大调整。新政策至少出现了五大变化。</a:t>
                </a:r>
                <a:br>
                  <a:rPr sz="2800"/>
                </a:b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■ 学生在校期间免交贷款利息</a:t>
                </a:r>
                <a:br>
                  <a:rPr sz="2800"/>
                </a:b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■ 还贷年限延长到六年</a:t>
                </a:r>
                <a:br>
                  <a:rPr sz="2800"/>
                </a:b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■ 招标选择贷款经办银行</a:t>
                </a:r>
                <a:br>
                  <a:rPr sz="2800"/>
                </a:b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■ 曝光违约借款学生名单</a:t>
                </a:r>
                <a:br>
                  <a:rPr sz="2800"/>
                </a:b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■ 建立贷款风险补偿资金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895480" y="228600"/>
            <a:ext cx="281952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们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143000" y="1668600"/>
            <a:ext cx="6858000" cy="3522600"/>
            <a:chOff x="1143000" y="1668600"/>
            <a:chExt cx="6858000" cy="3522600"/>
          </a:xfrm>
        </p:grpSpPr>
        <p:sp>
          <p:nvSpPr>
            <p:cNvPr id="110" name=""/>
            <p:cNvSpPr/>
            <p:nvPr/>
          </p:nvSpPr>
          <p:spPr>
            <a:xfrm>
              <a:off x="1143000" y="1668600"/>
              <a:ext cx="68580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1143000" y="1668600"/>
              <a:ext cx="6561000" cy="3522600"/>
              <a:chOff x="1143000" y="1668600"/>
              <a:chExt cx="6561000" cy="3522600"/>
            </a:xfrm>
          </p:grpSpPr>
          <p:sp>
            <p:nvSpPr>
              <p:cNvPr id="112" name=""/>
              <p:cNvSpPr/>
              <p:nvPr/>
            </p:nvSpPr>
            <p:spPr>
              <a:xfrm>
                <a:off x="1143000" y="1668600"/>
                <a:ext cx="656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43000" y="1668600"/>
                <a:ext cx="2565360" cy="352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  </a:t>
                </a:r>
                <a:r>
                  <a:rPr b="0" lang="zh-CN" sz="205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246480" cy="45342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4267080" y="1905120"/>
            <a:ext cx="4876920" cy="1556280"/>
            <a:chOff x="4267080" y="1905120"/>
            <a:chExt cx="4876920" cy="1556280"/>
          </a:xfrm>
        </p:grpSpPr>
        <p:sp>
          <p:nvSpPr>
            <p:cNvPr id="116" name=""/>
            <p:cNvSpPr/>
            <p:nvPr/>
          </p:nvSpPr>
          <p:spPr>
            <a:xfrm>
              <a:off x="4267080" y="1905120"/>
              <a:ext cx="487692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267080" y="1905120"/>
              <a:ext cx="4665600" cy="1556280"/>
              <a:chOff x="4267080" y="1905120"/>
              <a:chExt cx="4665600" cy="15562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67080" y="1905120"/>
                <a:ext cx="4665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267080" y="1905120"/>
                <a:ext cx="466452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中国在二十世纪八十年代推行普及基础教育时，及提出办学条件最基本要求为「一无两有」，即校校无危房，班班有课室，学生人人有课桌椅。这一基本要求，至今在西部一些贫困地区仍有待努力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"/>
          <p:cNvSpPr txBox="1"/>
          <p:nvPr/>
        </p:nvSpPr>
        <p:spPr>
          <a:xfrm>
            <a:off x="1981080" y="228600"/>
            <a:ext cx="213372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他们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1143000" y="2400480"/>
            <a:ext cx="6858000" cy="2059560"/>
            <a:chOff x="1143000" y="2400480"/>
            <a:chExt cx="6858000" cy="2059560"/>
          </a:xfrm>
        </p:grpSpPr>
        <p:sp>
          <p:nvSpPr>
            <p:cNvPr id="122" name=""/>
            <p:cNvSpPr/>
            <p:nvPr/>
          </p:nvSpPr>
          <p:spPr>
            <a:xfrm>
              <a:off x="1143000" y="2400480"/>
              <a:ext cx="68580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1143000" y="2400480"/>
              <a:ext cx="6561000" cy="2059560"/>
              <a:chOff x="1143000" y="2400480"/>
              <a:chExt cx="6561000" cy="2059560"/>
            </a:xfrm>
          </p:grpSpPr>
          <p:sp>
            <p:nvSpPr>
              <p:cNvPr id="124" name=""/>
              <p:cNvSpPr/>
              <p:nvPr/>
            </p:nvSpPr>
            <p:spPr>
              <a:xfrm>
                <a:off x="1143000" y="2400480"/>
                <a:ext cx="656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3000" y="2400480"/>
                <a:ext cx="2787480" cy="20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  </a:t>
                </a:r>
                <a:r>
                  <a:rPr b="0" lang="zh-CN" sz="109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191120" y="3484440"/>
            <a:ext cx="4952880" cy="3373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29200" cy="3357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6172200" y="685800"/>
            <a:ext cx="160020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他们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189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200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752480" y="4114800"/>
            <a:ext cx="6248520" cy="2514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523880" y="3276720"/>
            <a:ext cx="6248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同一蓝天下          不同的境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4648320" cy="3352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2514600" y="380880"/>
            <a:ext cx="39625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他们</a:t>
            </a: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.</a:t>
            </a:r>
            <a:r>
              <a:rPr b="0" lang="zh-C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们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4419720" cy="3353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191120" y="3048120"/>
            <a:ext cx="4610160" cy="3409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2514600" y="304920"/>
            <a:ext cx="39625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他们</a:t>
            </a: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.</a:t>
            </a:r>
            <a:r>
              <a:rPr b="0" lang="zh-C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们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76320" y="3962520"/>
            <a:ext cx="9067320" cy="1191240"/>
            <a:chOff x="76320" y="3962520"/>
            <a:chExt cx="9067320" cy="1191240"/>
          </a:xfrm>
        </p:grpSpPr>
        <p:sp>
          <p:nvSpPr>
            <p:cNvPr id="140" name=""/>
            <p:cNvSpPr/>
            <p:nvPr/>
          </p:nvSpPr>
          <p:spPr>
            <a:xfrm>
              <a:off x="76320" y="3962520"/>
              <a:ext cx="906732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6320" y="3962520"/>
              <a:ext cx="8674200" cy="1191240"/>
              <a:chOff x="76320" y="3962520"/>
              <a:chExt cx="8674200" cy="1191240"/>
            </a:xfrm>
          </p:grpSpPr>
          <p:sp>
            <p:nvSpPr>
              <p:cNvPr id="142" name=""/>
              <p:cNvSpPr/>
              <p:nvPr/>
            </p:nvSpPr>
            <p:spPr>
              <a:xfrm>
                <a:off x="76320" y="3962520"/>
                <a:ext cx="8674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320" y="3962520"/>
                <a:ext cx="8674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 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下午四时许，甘肃省迭部县腊子口中心小学的百余学生，此时全都坐在校园内，读书的读书，写字的写字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　　练习写字的学生却没有一个用纸和笔，人人都是用尖尖的石块在地上练习写字，他们都在聚精会神地读和写。他们全神贯注、渴求知识的精神，和东部地区的儿童，并无分别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。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他们所欠缺的，仅是一个求学的环境和学习的机会而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3757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6019920" y="762120"/>
            <a:ext cx="160020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他们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7:08:3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19:34Z</dcterms:modified>
  <cp:revision>12</cp:revision>
  <dc:subject>主题班会课件(分28大类): http://shop62905894.taobao.com</dc:subject>
  <dc:title>主题班会课件(分28大类): http://shop62905894.taobao.com</dc:title>
</cp:coreProperties>
</file>